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D7C7-EA0E-4735-8C16-5EFC8267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FF11-18B6-4E79-BD52-432DD97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6A72-DE5B-4904-94DE-5FE8B798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B90D-25DC-4287-AC76-BCE35CC6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D862-6F39-46DE-86A4-279BF20A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DC88-AB4B-49E8-9D5E-10E67C8E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0BB2-7C0F-420A-A9E0-622C167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B332-1679-4815-BF55-A654C298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8686-BEAD-4AC9-9DBA-BE7C250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795F-5B44-44F2-A467-C69D72AD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2F58-C692-43A9-9376-9852788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FFCC-C2D8-4887-AE1C-39F05D30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396B-8BAD-45B1-9710-4E584C7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5A37-4337-4D12-A71D-B24A354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B79A-36B6-4C68-B265-969FDF51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EF90-B8EE-470F-9199-E3AB72CD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476-019E-4258-93EC-98487958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4491-A60B-4902-81D5-3B0AC2DF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A7AF-5398-4BF3-9883-DB65B03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449F-CD75-40B3-BACB-81802134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7FEE-7676-4C99-912B-877E3869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4DF6-6466-4219-B1B3-E091AEF5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655C-F3CF-42FC-A643-DDD55BE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9BBD-B3D2-432A-BF01-337E97F4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D7D6-5C7A-4273-92C5-05AEA273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841-ABAD-437B-92F2-9A7BA6760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arallelism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 jogs, swims, 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kick box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 jogs, swims, 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kick box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lm had many stars, used various speci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s, and ________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eatured graphic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 was vio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lm had many stars, used various speci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s, and ________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featured graphic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 was vio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think that learning a new language is hard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learn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learning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think that learning a new language is hard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learn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learning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some very shy people, giving a spee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be as frightening as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aving a serious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have an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some very shy people, giving a spee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be as frightening as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having a serious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have an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d rather be lucky or hardworking th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ave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aving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al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d rather be lucky or hardworking th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ave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aving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tal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parallelism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allelis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s that similar parts of a sentence have the same structure: nouns are with nouns, verbs with verbs, and phrases with phras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ALLE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I lik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ng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ayak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o da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ALLE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I lik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ng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ayak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anc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football team has both a good offens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 has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aving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football team has both a good offens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 has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aving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b is not only loyal to friends but als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be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b is not only loyal to friends but als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be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sure to use parallelism in the following cases. (See your textbook for more details and examples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en joining two or more items wi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or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party featured a four-foot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ake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and a singing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gorill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 comparison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Tak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the train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s as fast a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riv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h certain paired wor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ik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oth/and, either/or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neither/n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lize bo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bakes bread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fixes ca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’s job responsibilities include ____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aining, and informing workers of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any polici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’s job responsibilities include ____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aining, and informing workers of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any polici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) none of the above;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hiring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is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orrect answ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nry likes pizza more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eat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be eating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nry likes pizza more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eat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be eating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 drove to the store to buy milk, eggs,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getting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 drove to the store to buy milk, eggs,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getting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7:14:27Z</dcterms:modified>
  <cp:revision>160</cp:revision>
  <dc:subject/>
  <dc:title>Sentence Fragments</dc:title>
</cp:coreProperties>
</file>